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EB04-2058-4AC8-B107-506E4520C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7733-1A98-48BC-86AE-46881683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3FB695-F616-4057-AFB8-18C1AD00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09F4D-57DF-4742-ADED-D4A34EE3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A3216-76DE-4B55-9D64-6ED2E65B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90D29-45E7-4677-ABB9-1BD4B98F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D50E1-27C7-4EE1-839D-57DE5437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95570-D475-43EE-BA5C-0EB8A44B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DFF03-94CD-47DA-9140-7CB62873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BCB13-3A02-4106-9603-E5DD9A2CE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D26D6-5799-4F5E-92B7-C2B17F414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486107-4EBC-4157-8F67-35F52FFC7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A36E-3923-4C28-9CE5-A4353B6B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738A1F-34DB-423C-A6C3-920ADDCD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A1C553-55F1-46F6-8305-BE28D8DA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C18EF0-093C-406D-9EAB-8D0DD2DF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B0244-4683-4A25-8D8A-EF0DAC0B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301AD-F621-49A8-B169-8157EECF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E3B96A-444F-4492-96BA-F76EC0A8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37E6D-BDCB-43DE-AB03-902C16CC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F36C0-CA56-48AF-855D-94ED2483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3D28B-618C-4564-BB11-473CEF0A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768A5-0A54-4CB8-B8E1-580FEC432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F735-53EA-4253-BEB2-6C912EAFD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5AF36D-AC43-4495-9206-511FE4793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F71F4-BD5C-43FA-B37B-206E6FCA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0AB3E-A790-4372-B326-321EB59B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13494-CD6F-42AF-8BB1-71E7D64A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19BA7-B95B-4116-ADB0-EEDD6415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C4EA0-E7E0-4081-B107-133F6846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80C49-4CCB-4F4A-B9CD-8E0B9605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7F95F-1A9F-4035-BA4E-D6693BBC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37D15-C9CD-41C8-BFAE-A2343236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1E785-FC2F-49E2-8E6D-6F46554B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1C92-4AAB-41A5-90FD-69CA9E872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F83B2-512E-4984-A9CB-60B3841F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D57E5-6717-441B-8BCB-13FC2B308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9222A-9EFD-48DC-A568-C0FE92FFF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5554A9-2109-426A-9CC7-C7A6AD7AE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349E8-3820-47BB-A390-198FFF8D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FCFA3F-FF68-447A-9A84-C4B39D74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A54A96-F412-4E5F-B60C-CE316B3B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D30946-7B29-4BDC-8DA8-41078745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90F742-DD24-47FE-AC31-688C3E08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73FC6-DC04-4E09-B8DD-C39FEA6D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6A08-D93A-4266-8869-EC09E689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3A38F6-E371-4494-927E-25009326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0B00AD-9748-4AA8-8739-5435BF19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03C455-042B-4872-B201-29C0C6C3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628708-594E-40FE-BA0B-881A94660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110FAE-2A0B-43BF-AF77-FBB69737E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C5D6-B470-4F94-896F-370ECD7C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4CAD-3F28-4A92-BE59-F67D8CEB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7AE7-9F2F-4716-8488-C8B25B6C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1DF0-B325-4056-9114-EDCEDE75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BEAE-7311-49E9-9EE6-62B0715D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7CCD-835A-4870-A297-61D9465C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6070-7443-4CF5-8436-D46C22E1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8654-7A8E-48FE-B181-35E8E598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7EE8-C576-4A33-865B-02BD5DD8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8E1F-BCFA-45F1-B5BB-46DCC031F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9394-A56A-4183-AD0E-79EEDFDA5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AC980-3F9C-48EC-A55A-29AC58E05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F8B2E-4980-45CC-94C9-D3C28BDA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FF294-EE8D-4344-8F3D-5802B80A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D3C46-FD1B-47F2-A1A8-743EA278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72CAB-73DF-47B8-B76E-FB67F913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560F-7BE5-4276-AA97-907A9E27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AA0B9-29D6-415F-8A78-AEB27D23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690F4-832D-4963-A18F-F79F7135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03789-22B6-4720-87C9-DA293C2C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68E66-7610-41BE-B7DC-97937EA7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B76F0-5382-451B-A186-CB7779F2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010B6-8333-49B4-A320-85EAFDC4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0A28D-944B-4289-9F01-022215379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07596-0CBD-4B8C-8856-9C4DA812C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74960-F812-4357-951E-83472E0A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2A1D4-A890-464A-AF8B-622F06FB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14B6-1F90-47AD-B3E6-8506FD70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09FEA-CBBA-4B9F-AFF1-5203E095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18DFB-7A4F-419E-ADA7-9C224637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EB1FA-EEDB-4752-B118-B76D33F7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440D9-31B5-4AA9-89C8-C455D316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1A23C-7C74-4F81-B2D6-79F473DE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3E950-F39E-4FC4-AF3A-98C2BF94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6FEC5-2547-4EE5-B0C4-6D0AC70F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595F4-9A80-4095-A882-68F09432A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4875B-AB85-49CF-816C-ABBEA9D20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12151-573F-49BD-9A56-40A8C43AB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FFB9-0C0F-466E-8043-AED5A20C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97FAA-E0C3-4CF2-B12E-99C18367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7E2AA-3CA2-42AA-B69D-E179817C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72AF5-0495-41A9-963F-954BD22C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2EB73-7964-4D2B-AEA9-AC3E6E13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155B4-43D3-45B7-B323-D8985DAA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FE49F-0BF2-4618-9793-C2EBBB2B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071ED-BC17-4118-8445-257900D5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B78E7-1DCC-41B6-98F6-DFC80BDA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2C9DB-BECE-4E15-B34E-16C74DBB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9CA9E-F2D9-4312-8619-65C5F7737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2B83-7FC2-419E-8C99-19A78C01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B553A-B515-407B-9E8B-79973E65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9AE2D-60B4-46B9-96F6-0EA6BE0EF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FC924-8924-4C3D-9356-47EBACD1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D1082-A2ED-47D3-BB37-D86D3E1A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480C5-6DFD-4BBE-AF3A-821A14F8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B216D-E7E3-4956-8576-30968D51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57AEE-3AFD-41E1-B4FA-679A8128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BB2AF-7A13-433C-AEC0-BDBDEBFB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6C172-4069-4CF1-8EAC-251F579B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80919-B8DA-49BA-94EE-5B72DBE0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524E-099B-48E6-BDCB-5699CA05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DAF2F-294B-4905-AE87-80699C48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9D0AD-E057-4BF1-894F-D0ED722D8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883CA-6851-4EC5-B250-C9A60FCBD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66328-344B-47D1-A520-59303EC7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6EF3B-8A12-47C5-AF62-64C1EFCB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10064-D7B1-4FAE-90AD-7A3BA7C5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3DC8B-2B18-413D-89BD-579C3857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412C3-8316-431A-B973-A7E0F809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AF9AB-ECD0-4C6D-9D6A-43FE300F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8899A-D632-484F-9F06-FC9F4857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B45B-12D4-48BC-8151-797404B4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D3C39-6C3A-4D3E-8E50-57AC75AD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B88E9-7201-4DFE-876E-DA318BC2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74FB8-8315-4E68-A64C-DE9AA770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44923-619A-4D06-86DB-24D7D7821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FFA67-FB34-4558-9AEE-F30C37B7E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790E7-75C9-444B-BC29-12D725AC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C66B9-3382-427C-A553-D67E763F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03E63-3259-4E4E-99FC-818E5C26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E578D-9C70-4971-80EB-7C3C6FB0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6DE96-8CB6-47A8-B0B2-FFAE3C32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3BA7-9262-4122-85B1-1CD4D3C5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A09F0-223F-4F55-9B7A-0550D2DA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9AAB4-0383-4F4B-AECD-ECD0A85E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C7BC9-012F-4DBB-A229-E5010A64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6B17B-DA71-4F66-B7F2-80223543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9D203-9A70-4564-B65D-EE6904CD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0F25D-3F3F-4F35-865E-88DE67DC8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0AFF1-DA57-4F6C-BA7E-6823F5854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066BA-BDDA-4536-8503-EDC6F213C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81209-43DA-4C1B-93E6-6CAFE6C7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4EA23-BD92-46E0-B7B7-751AB139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2D75-4C03-4F2D-80E1-C8DE9A898D1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9BB2-B85B-46B3-9A33-492D872B400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D5E0-B9C8-4B69-91A9-5F276A84A39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DAD8-7755-44D3-9BA9-EA17CE33E91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9BA0-5F45-41D4-A2F8-CDD3D75077A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39BF-77FF-4FCB-8A38-A75BD92F9DF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3C73-887F-4B75-85B1-4794A3227B2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C014-E100-40E7-A6ED-60A73403A45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C2BB-3EA9-4ACA-AF68-2344FD0A536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F697-B7AB-40C8-9EB0-7C3EBC320A8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E80F-A0CC-45C6-8CC1-C17E8ACAFB1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C5AC-9CE6-4B1C-87B3-2A411C5A147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70 Na úsvite sná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m, že blízko je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víťazný ozve sa hlas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š Pán Ježiš už prichádza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Haleluja! Amen. :||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úsvite snáď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oci tma keď sa trat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lnečný lúč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štíty hôr v diaľke zláti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ľub svoj splní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neba vráti sa zas k n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zhromaždí verný svoj ľu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m, že blízko je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víťazný ozve sa hlas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š Pán Ježiš už prichádza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Haleluja! Amen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náď na polud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ožno deň sa schýl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triebrosvit hviezd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plaví kraj po chvíli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i o polnoc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de v sláve a moc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zástupy anjelov s n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m, že blízko je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víťazný ozve sa hlas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š Pán Ježiš už prichádza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Haleluja! Amen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príde náš Pán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ýchlo čas ten sa krá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ľub, ktorý dal 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ikto už nevyvrá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 nás k sebe vzi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úži vlasť novú nám d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de hriech ani smrť nebu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1-06T18:28:12Z</dcterms:modified>
  <cp:revision>39</cp:revision>
  <dc:subject/>
  <dc:title>Je veľký náš Pán, on slávy je Kráľ Nech do všetkých strán  spev vrúcnych znie chvál.</dc:title>
</cp:coreProperties>
</file>